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8.jpeg" ContentType="image/jpeg"/>
  <Override PartName="/ppt/media/image29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13.jpeg" ContentType="image/jpeg"/>
  <Override PartName="/ppt/media/image8.jpeg" ContentType="image/jpeg"/>
  <Override PartName="/ppt/media/image41.wmf" ContentType="image/x-wmf"/>
  <Override PartName="/ppt/media/image52.jpeg" ContentType="image/jpeg"/>
  <Override PartName="/ppt/media/image33.wmf" ContentType="image/x-wmf"/>
  <Override PartName="/ppt/media/image15.jpeg" ContentType="image/jpeg"/>
  <Override PartName="/ppt/media/image62.wmf" ContentType="image/x-wmf"/>
  <Override PartName="/ppt/media/image24.jpeg" ContentType="image/jpeg"/>
  <Override PartName="/ppt/media/image49.jpeg" ContentType="image/jpeg"/>
  <Override PartName="/ppt/media/image55.jpeg" ContentType="image/jpeg"/>
  <Override PartName="/ppt/media/image61.jpeg" ContentType="image/jpeg"/>
  <Override PartName="/ppt/media/image60.jpeg" ContentType="image/jpeg"/>
  <Override PartName="/ppt/media/image27.png" ContentType="image/png"/>
  <Override PartName="/ppt/media/image39.png" ContentType="image/png"/>
  <Override PartName="/ppt/media/image22.jpeg" ContentType="image/jpeg"/>
  <Override PartName="/ppt/media/image10.png" ContentType="image/png"/>
  <Override PartName="/ppt/media/image42.wmf" ContentType="image/x-wmf"/>
  <Override PartName="/ppt/media/image17.gif" ContentType="image/gif"/>
  <Override PartName="/ppt/media/image1.jpeg" ContentType="image/jpeg"/>
  <Override PartName="/ppt/media/image21.png" ContentType="image/png"/>
  <Override PartName="/ppt/media/image36.png" ContentType="image/png"/>
  <Override PartName="/ppt/media/image59.jpeg" ContentType="image/jpeg"/>
  <Override PartName="/ppt/media/image40.wmf" ContentType="image/x-wmf"/>
  <Override PartName="/ppt/media/image18.png" ContentType="image/png"/>
  <Override PartName="/ppt/media/image6.png" ContentType="image/png"/>
  <Override PartName="/ppt/media/image28.jpeg" ContentType="image/jpeg"/>
  <Override PartName="/ppt/media/image16.png" ContentType="image/png"/>
  <Override PartName="/ppt/media/image7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38.wmf" ContentType="image/x-wmf"/>
  <Override PartName="/ppt/media/image32.jpeg" ContentType="image/jpeg"/>
  <Override PartName="/ppt/media/image34.png" ContentType="image/png"/>
  <Override PartName="/ppt/media/image37.png" ContentType="image/png"/>
  <Override PartName="/ppt/media/image9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4.jpeg" ContentType="image/jpeg"/>
  <Override PartName="/ppt/media/image45.jpeg" ContentType="image/jpeg"/>
  <Override PartName="/ppt/media/image3.wmf" ContentType="image/x-wmf"/>
  <Override PartName="/ppt/media/image46.jpeg" ContentType="image/jpeg"/>
  <Override PartName="/ppt/media/image47.jpeg" ContentType="image/jpeg"/>
  <Override PartName="/ppt/media/image35.wmf" ContentType="image/x-wmf"/>
  <Override PartName="/ppt/media/image48.jpeg" ContentType="image/jpeg"/>
  <Override PartName="/ppt/media/image4.jpeg" ContentType="image/jpeg"/>
  <Override PartName="/ppt/media/image51.png" ContentType="image/png"/>
  <Override PartName="/ppt/media/image54.jpeg" ContentType="image/jpeg"/>
  <Override PartName="/ppt/media/image56.jpeg" ContentType="image/jpeg"/>
  <Override PartName="/ppt/media/image5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A39-BF63-4C98-8BB4-3576EE77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781-DECD-4A94-BBE0-314E11B8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70A-405F-454F-8CAF-B070BB25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6E4-EE81-464A-8A25-6F6844D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98E-8E01-4C83-B163-A3C17401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64B2-3ECA-41F5-9E41-9CC83D74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2047-C89A-46DA-911F-5B152624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9916-5D05-47A2-A026-B2EE9F31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63D1-89D9-4864-9C8C-64EF7F54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CE5-0536-4270-9599-3EA50B9F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98D4-EF6E-4AD2-BED7-7D244D7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3B5-CB63-4B51-80F9-D678FEE9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391-F420-4175-B96B-5EF9BAC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AF1-E83E-45D1-8F92-5F31F989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75B2-7FD5-4D84-BC5F-7A1B7F9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E35-0030-4D9D-BFC9-9C30EE08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D3C-400D-46AB-91BD-DCD054EF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695-1611-4CC3-B378-40248D0A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53C-0910-4C35-A473-A45EB5E9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A1C-62BD-438E-AE59-C214C9A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DB4-41B2-4699-8484-884DE2C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393-0E69-4173-9236-8E2D1356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B4E-4511-4BF6-8455-630E635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D2F-9FC3-4A66-8C02-F7E1804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83B7-04CD-44B7-AF96-C08B8CC445B6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2D53-C01B-4FBB-9B88-DD8244EBB1F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41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t One Chemistry – Horsham Colle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877000"/>
            <a:ext cx="9144000" cy="64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 – VCE Chemist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981000"/>
            <a:ext cx="82789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Modern Periodic Tab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1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849600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72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04000" y="371628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Mendeleev and Mey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44053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Dmitri Mendeleev and German Julius von Meyer went on to independently develop their versions of the periodic law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emists produced remarkably similar results at the same time working independently of one another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re has been some disagreement about who deserves credit for being the "father" of the periodic t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2156040" cy="288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561000" y="3789360"/>
            <a:ext cx="2341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Dmitri Mendeleev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46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69 Mendeleev arranged elements by atomic weights and propertie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ndeleev's periodic table of 1869 contained 17 columns with two partial periods of seven elements each (Li-F &amp; Na-Cl) followed by two nearly complete periods (K-Br &amp; Rb-I)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71 Mendeleev revised the 17-group table with eight columns (the eighth group consisted of transition elements)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able exhibited similarities not only in small units such as the triads, but showed similarities in an entire network of vertical, horizontal, and diagonal relationship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table contained gaps but Mendeleev predicted the discovery of new elements. 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906, Mendeleev came within one vote of receiving the Nobel Prize in chemistry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549600" cy="527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27640" y="3860640"/>
            <a:ext cx="647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956720" y="189000"/>
            <a:ext cx="9144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16000" y="476280"/>
            <a:ext cx="7704000" cy="597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Julius von Meye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us von Mey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veloped a periodic table based on atomic masses, independently of Mendeleev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Meyer presented only 28 elemen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yer had several inaccuracies and some elements were not includ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yer was the first scientist to introduce the concept of valence as a periodic property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Meyer never came to the idea of predicting new elements and correcting atomic weights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5053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few months after Mendeleev published his periodic table of all known elements (and predicted several new elements to complete the table, plus some corrected atomic weights), Meyer published a virtually identical table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309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21440" cy="6323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2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49780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75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04000" y="3860640"/>
            <a:ext cx="18414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Henry Mosele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tomic number instead of atomic mass as the organising principle was first proposed by the British chemist Henry Moseley in 1913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his discovery, atomic numbers were just sequential numbers based on an element's atomic weight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eley's discovery showed that atomic numbers had an experimentally measurable basi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number solved anomalies like Iodine, that has a higher atomic number than tellurium - so, even though he didn't know why, Mendeleev was right to place it after tellurium after all!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413000"/>
            <a:ext cx="350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eley's research also showed that there were gaps in his table at atomic numbers 43 and 61 which are now known to be radioactive and not naturally occurring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in the footsteps of Dmitri Mendeleyev, Henry Moseley also predicted new element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150400" y="189000"/>
            <a:ext cx="804600" cy="115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3924360" cy="1780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Glenn Seaborg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5183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the 1930s, the heaviest elements were being put up in the body of the periodic table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lenn Seaborg "plucked those out" while working with Fermi in Chicago, naming them the Actinide serie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later permitted proper placement of subsequently 'created' elements - the Transactinides, changing the periodic table yet again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elements were shown separate from the main body of the tabl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concept demonstrated how the heavy elements fit into the Periodic Table and thus demonstrated their relationships to the other elements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ddition to the discovery of transuranium elements,  Seaborg and his colleagues are responsible for the identification of more than 100 isotopes of elements throughout the Periodic Table.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3005280" cy="475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956720" y="26028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88000" y="4869000"/>
            <a:ext cx="1008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260280"/>
            <a:ext cx="7993080" cy="626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 Black"/>
              </a:rPr>
              <a:t>Periodic Table Development</a:t>
            </a:r>
            <a:endParaRPr b="0" lang="en-US" sz="32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emistry textbook, classroom, lecture theatre or research laboratory is complete without a copy of the periodic table of the element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s attempted to arrange the known elements in ways that revealed similarities between them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required the genius of Mendeleev to see that arranging elements into patterns was not enough;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alised that there was a natural plan in which each element has its allotted place, and this applies not only to the known elements but to some that were still undiscover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there are 111 elements recognised by IUPAC, and these are usually displayed in the form of a matrix called a periodic table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3024000" cy="496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Periods of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676160"/>
            <a:ext cx="42609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rows of the table are called period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7 period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the same period have the same outermost occupied sh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Period 2 is filling the second shel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751200" cy="4248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900000" y="6021360"/>
            <a:ext cx="79200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Groups of the Periodic Table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676520"/>
            <a:ext cx="8134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ical columns are called group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are numbered 1-18. This replaces the old system of I-VIII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families have the same number of valence electrons in their valence (outermost) 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416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00000" y="404280"/>
            <a:ext cx="80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eriodic table groups are as follows (in the brackets are shown the old systems: European and American)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 (IA,IA): the alkali metals or hydrogen family/lith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2 (IIA,IIA): the alkaline earth metals or helium family/beryll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3 (IIIA,IIIB): the scand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4 (IVA,IVB): the titan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5 (VA,VB): the vanad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6 (VIA,VIB): the chromium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7 (VIIA,VIIB): the manganese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8 (VIII): the ir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9 (VIII): the cobalt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0 (VIII): the nickel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1 (IB,IB): the coinage metals (not an IUPAC-recommended name) or copper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2 (IIB,IIB): the zinc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3 (IIIB,IIIA): the bor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4 (IVB,IVA): the carbo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5 (VB,VA): the pnictogens (not an IUPAC-recommended name) or nitroge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6 (VIB,VIA): the chalcogens or oxygen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7 (VIIB,VIIA): the halogens or fluorine family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oup 18 (Group 0): the noble gases or helium family/neon family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3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856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80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3272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s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5616720" cy="4848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s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of the valence shell is being fill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nce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holds 2 electrons, only 2 groups of elements (Groups 1 &amp; 2) are in this 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e outermost occupied shell there are 1 or 2 electrons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but none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the second outermost shell contains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bshell, it does not contain electron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663640" cy="3024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156360" y="4869000"/>
            <a:ext cx="273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p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4824360" cy="4848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of the outermost shell is being fill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 can hold only 6 electrons, hence there are 6 groups in the p-blo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e outermost occupied shell there are 2 electrons in the s subshell and 1 or more electrons in th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f the second outermost shell contains a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ubshell, it is ful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600720" cy="3241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364000" y="5157720"/>
            <a:ext cx="356076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The Blocks of the Periodic Table (d-block)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76520"/>
            <a:ext cx="8062920" cy="247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is being filled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e to the order of of energies of the subshells, this only occurs after the next shell has started to fil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can hold 10 electrons, hence 10 groups are found in the d-block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ls in this block are collectively known as the transition metal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shell filling elements are called first transition series.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4d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re second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lectron configuration;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the outermost occupied shell 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shell is full but there are no electons in 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subshell of the second outermost shell contain 1 or more electron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4535280" cy="227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48360" y="4437000"/>
            <a:ext cx="324144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921800" cy="619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4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5 on P. 83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732720" y="371628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Noble Gas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noble gases are found in group 18 of the modern periodic table. They were not included in the original periodic table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ble gases are found in minerals or in the atmosphere in trace amount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ble gases are un-reactive (inert) due to having a full outer shell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ry Cavendish, in 1784, placed some air and pure oxygen into a U-shaped tube that contained mercury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 then added some salts and a base to the mercury. Cavendish used a electric discharge to start the reactio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se reactions removed the nitrogen and oxygen from the air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rprisingly a bubble remained in the top of the tube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unreactive bubble was called ‘Cavendish’s bubble’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re than 100 years, this bubble was named Argon meaning Greek for ‘lazy one’.</a:t>
            </a:r>
            <a:r>
              <a:rPr b="0" lang="en-AU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7634160" cy="213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63000" y="189000"/>
            <a:ext cx="8017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What Patterns?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440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1800’s, scientists and alchemists did not consider the idea of patterns occurring between the known element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were considered unique and unrelated to any other eleme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s who suggested that patterns may exist were ridiculed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and Potassium were discovered in the early 1800’s. Both have very similar properti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evidence later suggested that elements could be sorted in order of increasing atomic weigh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5053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were found to have repeating patterns. This is known as the periodic law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vancing knowledge of the atomic model furthered chemists knowledge of elemental properties.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198960" cy="209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740720" y="476280"/>
            <a:ext cx="776160" cy="741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Rayleigh and Ramsey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4392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ate nineteenth century, Lord Rayleigh and William Ramsay theorised that the nitrogen extracted from air was associated with another gas, argon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is discovery, they realized that a whole class of gases was missing from the periodic tabl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ually all the known noble gases except for helium were discovered in the air, with argon being much more common than the others, and the table was completed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um was detected spectrographically in the Sun in 1868. The isolation of helium on Earth had to wait until 1895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on was isolated and studied in 1910 after many years of investigating by Ramsey. Radon is radioactive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2205000"/>
            <a:ext cx="3505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1874880" cy="2593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1674720" cy="2565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076720" y="4076640"/>
            <a:ext cx="1873440" cy="135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076720" y="5445000"/>
            <a:ext cx="1862280" cy="1235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067520" y="4076640"/>
            <a:ext cx="1712880" cy="2570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7129440" cy="3114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332000" y="3429000"/>
            <a:ext cx="7127640" cy="3224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66756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6667560" cy="1368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619280" y="3357720"/>
            <a:ext cx="6667560" cy="1368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6667560" cy="136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20720" y="2595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700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699560"/>
            <a:ext cx="599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700, plus those discovered between 1700 and 1799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3357000"/>
            <a:ext cx="60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800, plus those discovered between 1800 and 1899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4868280"/>
            <a:ext cx="65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ements known before 1900, plus those discovered between 1900 and 2005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Missing 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798984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925, 88 out of the 92 naturally occurring elements had been identifi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43 (Technetium) ,61 (Promethium), 85 (Astatine) and 87 (Francium) were mis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e radioactive with very short half-liv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,85 and 87 have been identified in decaying uranium. All are extremely rar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3 has only been produced synthetically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iodic table is now complete!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987640" y="4797360"/>
            <a:ext cx="1944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7e2a00"/>
                </a:solidFill>
                <a:latin typeface="Arial Black"/>
              </a:rPr>
              <a:t>The periodic spiral of Professor Thoedor Benfey.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7632720" cy="5199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7e2a00"/>
                </a:solidFill>
                <a:latin typeface="Arial Black"/>
              </a:rPr>
              <a:t>Albert Tarantola’s orbital periodic table.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7705800" cy="4969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Alternative Tables </a:t>
            </a:r>
            <a:br>
              <a:rPr sz="3600"/>
            </a:br>
            <a:r>
              <a:rPr b="0" lang="en-US" sz="2400" spc="-1" strike="noStrike">
                <a:solidFill>
                  <a:srgbClr val="5c1f00"/>
                </a:solidFill>
                <a:latin typeface="Arial Black"/>
              </a:rPr>
              <a:t>Alexander Arrangement of the Elements</a:t>
            </a: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7561080" cy="4919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Stowe’s Arrange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720072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Questions 4.5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8209080" cy="477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4 on P. 86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Arial Black"/>
              </a:rPr>
              <a:t>Review Ques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424720" cy="477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questions 1-8 on P. 88-89 of Nelson VCE Chemistry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1841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 Black"/>
              </a:rPr>
              <a:t>Early classification -Antoine Lavoisier of 1789</a:t>
            </a:r>
            <a:endParaRPr b="0" lang="en-US" sz="36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toine Lavoisier's 1789 classification of substances divided substances into four 'element' group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ist contained substances that could not be broken down further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id-making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lphur, Phosphorus, charcoal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as-like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, caloric (heat), oxyge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tallic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balt, mercury, tin, copper, nickel, iron, gold, lead, silver, zinc, manganese, tungsten, platinu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rthy elements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me, magnesia, barytes, azote, argilla, silex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voisier also formed the basis for the modern list of elements.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72320" y="4941720"/>
            <a:ext cx="114768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dfd293"/>
                </a:solidFill>
                <a:latin typeface="Arial Black"/>
              </a:rPr>
              <a:t>Döbereiner’s Triad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405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1829, German Johann Döbereiner discovered that groups of elements with similar chemical properties such as Lithium, Sodium and Potassium had a strange similarity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verage of the atomic weight of Lithium and Potassium was the same as the atomic weight of Sodium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iddle element in the triad had properties halfway between the properties of the other two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pattern was replicated with Calcium, Strontium and Barium as well as Sulphur, Selenium, and Tellurium and also Chlorine, Bromine and Iodine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ddition, the densities of some of the triads followed the same relationship.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groups became known as "Döbereiner's triads"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812000" y="189000"/>
            <a:ext cx="1122480" cy="122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76720" y="14839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Ca   Sr   Ba     (40 + 137) ÷ 2 = 88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cc"/>
                </a:solidFill>
                <a:latin typeface="Arial"/>
              </a:rPr>
              <a:t>40   88   137</a:t>
            </a:r>
            <a:r>
              <a:rPr b="0" lang="en-A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076720" y="2205000"/>
            <a:ext cx="3851280" cy="1501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image: Two of Dobereiner's triads. Table 1, Alkali formers: lithium, sodium and potassium. Table 2, Salt formers: chlorine, bromine and iodine."/>
          <p:cNvPicPr/>
          <p:nvPr/>
        </p:nvPicPr>
        <p:blipFill>
          <a:blip r:embed="rId5"/>
          <a:stretch/>
        </p:blipFill>
        <p:spPr>
          <a:xfrm>
            <a:off x="5076720" y="3860640"/>
            <a:ext cx="38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5904000" cy="206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71640" y="2436840"/>
            <a:ext cx="7921440" cy="408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42920" y="260280"/>
            <a:ext cx="184968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Cylinder of Elemen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1862, Frenchman Alexandre de Chancourtois published a cylindrical arrangement of the elements (Also called the telluric screw)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lements, based on Oxygen-16, differed by 16 in their atomic weigh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ke Döbereiner, Chancourtois’ cylinder received little atten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164360" y="4508640"/>
            <a:ext cx="1484280" cy="20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508720" y="4508640"/>
            <a:ext cx="15984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The Law of Octave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3322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glish Chemist, John Newlands discovered that every eighth element had similar propertie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called this the law of octaves (Analogy with music)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wlands developed a table in which he placed elements with similar properties in the same collum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fortunately, his table was ridiculed by the Royal Society in 1864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2520" y="1413000"/>
            <a:ext cx="3940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ever, while successful for some elements, Newlands' law of octaves failed for two reasons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was not valid for elements that had atomic masses higher than Ca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further elements were discovered, such as the noble gases (He, Ne, Ar), they could not be accommodated in his table.</a:t>
            </a: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258920" y="5157720"/>
            <a:ext cx="30258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6985080" cy="382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76720" y="4365720"/>
            <a:ext cx="1690560" cy="23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51480" y="5824440"/>
            <a:ext cx="22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157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ohn Newland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5050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01:15:49Z</dcterms:created>
  <dc:creator>DE&amp;T User</dc:creator>
  <dc:description/>
  <dc:language>en-US</dc:language>
  <cp:lastModifiedBy>DE&amp;T User</cp:lastModifiedBy>
  <dcterms:modified xsi:type="dcterms:W3CDTF">2008-01-06T10:02:08Z</dcterms:modified>
  <cp:revision>62</cp:revision>
  <dc:subject/>
  <dc:title>The Structure of the Atom</dc:title>
</cp:coreProperties>
</file>